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445-11D6-4D94-A37A-A31E2AC5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020-83D8-4873-B6BC-E3272F09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197-BB57-45F3-B43B-A4036E33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F36-91D9-4829-85EB-089B28BE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DE0-A8C8-4DAC-B0A1-03F45B36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346-1BBC-4ECC-B376-EF7D39D4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4E5-8DAC-4293-96DE-BB9BDD82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A5D-8E18-4C83-BB86-5984916C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5F9-5925-4864-9AE1-D5E3D2E0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8ED-F12D-439F-85DB-B1BADF3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538-32AA-4A10-9B26-00EFB4D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CA2-AFB7-459D-A701-263E2B2C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6C75-3791-4C1E-AA27-7A355FB28E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752480"/>
            <a:ext cx="3657600" cy="182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3581280"/>
            <a:ext cx="914400" cy="1067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581280"/>
            <a:ext cx="914400" cy="1067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3581280"/>
            <a:ext cx="914400" cy="1067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3581280"/>
            <a:ext cx="914400" cy="1067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648320"/>
            <a:ext cx="9144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4648320"/>
            <a:ext cx="838440" cy="685800"/>
          </a:xfrm>
          <a:prstGeom prst="rect">
            <a:avLst/>
          </a:prstGeom>
          <a:solidFill>
            <a:srgbClr val="ccffcc">
              <a:alpha val="2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581280"/>
            <a:ext cx="914400" cy="1067040"/>
          </a:xfrm>
          <a:prstGeom prst="rect">
            <a:avLst/>
          </a:prstGeom>
          <a:gradFill rotWithShape="0">
            <a:gsLst>
              <a:gs pos="0">
                <a:srgbClr val="ffff00">
                  <a:alpha val="10196"/>
                </a:srgbClr>
              </a:gs>
              <a:gs pos="50000">
                <a:srgbClr val="fefefe"/>
              </a:gs>
              <a:gs pos="100000">
                <a:srgbClr val="ffff00">
                  <a:alpha val="10196"/>
                </a:srgbClr>
              </a:gs>
            </a:gsLst>
            <a:lin ang="108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3581280"/>
            <a:ext cx="914400" cy="1067040"/>
          </a:xfrm>
          <a:prstGeom prst="rect">
            <a:avLst/>
          </a:prstGeom>
          <a:gradFill rotWithShape="0">
            <a:gsLst>
              <a:gs pos="0">
                <a:srgbClr val="ffff00">
                  <a:alpha val="10196"/>
                </a:srgbClr>
              </a:gs>
              <a:gs pos="50000">
                <a:srgbClr val="fefefe"/>
              </a:gs>
              <a:gs pos="100000">
                <a:srgbClr val="ffff00">
                  <a:alpha val="10196"/>
                </a:srgbClr>
              </a:gs>
            </a:gsLst>
            <a:lin ang="108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581280"/>
            <a:ext cx="914400" cy="1067040"/>
          </a:xfrm>
          <a:prstGeom prst="rect">
            <a:avLst/>
          </a:prstGeom>
          <a:gradFill rotWithShape="0">
            <a:gsLst>
              <a:gs pos="0">
                <a:srgbClr val="ffff00">
                  <a:alpha val="10196"/>
                </a:srgbClr>
              </a:gs>
              <a:gs pos="50000">
                <a:srgbClr val="fefefe"/>
              </a:gs>
              <a:gs pos="100000">
                <a:srgbClr val="ffff00">
                  <a:alpha val="10196"/>
                </a:srgbClr>
              </a:gs>
            </a:gsLst>
            <a:lin ang="108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581280"/>
            <a:ext cx="914400" cy="1067040"/>
          </a:xfrm>
          <a:prstGeom prst="rect">
            <a:avLst/>
          </a:prstGeom>
          <a:gradFill rotWithShape="0">
            <a:gsLst>
              <a:gs pos="0">
                <a:srgbClr val="ffff00">
                  <a:alpha val="10196"/>
                </a:srgbClr>
              </a:gs>
              <a:gs pos="50000">
                <a:srgbClr val="fefefe"/>
              </a:gs>
              <a:gs pos="100000">
                <a:srgbClr val="ffff00">
                  <a:alpha val="10196"/>
                </a:srgbClr>
              </a:gs>
            </a:gsLst>
            <a:lin ang="108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95680"/>
            <a:ext cx="914400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276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ow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8153280" cy="68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219320"/>
            <a:ext cx="9907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219320"/>
            <a:ext cx="99036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219320"/>
            <a:ext cx="99036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219320"/>
            <a:ext cx="9907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219320"/>
            <a:ext cx="5335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le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olize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219320"/>
            <a:ext cx="60948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euerweh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219320"/>
            <a:ext cx="5335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le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olize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04920"/>
            <a:ext cx="8153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ndebah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648320"/>
            <a:ext cx="68580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lug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afen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4648320"/>
            <a:ext cx="838080" cy="68580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648320"/>
            <a:ext cx="1143000" cy="22096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ugezug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1880" y="4648320"/>
            <a:ext cx="762120" cy="22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Flugezug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war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(we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Mög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o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bau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82428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kposi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648320"/>
            <a:ext cx="152280" cy="2209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4648320"/>
            <a:ext cx="152280" cy="2209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5334120"/>
            <a:ext cx="838080" cy="68580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6019920"/>
            <a:ext cx="838080" cy="68580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334120"/>
            <a:ext cx="838440" cy="68580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6019920"/>
            <a:ext cx="838440" cy="68580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5334120"/>
            <a:ext cx="1523880" cy="1523880"/>
          </a:xfrm>
          <a:prstGeom prst="rect">
            <a:avLst/>
          </a:prstGeom>
          <a:solidFill>
            <a:srgbClr val="808080">
              <a:alpha val="10000"/>
            </a:srgbClr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a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Eisen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hnan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5334120"/>
            <a:ext cx="1524240" cy="1523880"/>
          </a:xfrm>
          <a:prstGeom prst="rect">
            <a:avLst/>
          </a:prstGeom>
          <a:solidFill>
            <a:srgbClr val="808080">
              <a:alpha val="10000"/>
            </a:srgbClr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rmina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weit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4648320"/>
            <a:ext cx="3657600" cy="83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rmina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5562720"/>
            <a:ext cx="152280" cy="12952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5562720"/>
            <a:ext cx="152640" cy="12952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5638680"/>
            <a:ext cx="75960" cy="1219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5638680"/>
            <a:ext cx="1600200" cy="76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5638680"/>
            <a:ext cx="76320" cy="1219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66294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66294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64008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64008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61722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61722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59436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59436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57150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57150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67080" y="6095880"/>
            <a:ext cx="107640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haltestellen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428640" y="6095880"/>
            <a:ext cx="76212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axi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5333760" y="6095880"/>
            <a:ext cx="76212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axi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86400"/>
            <a:ext cx="990720" cy="228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g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752480"/>
            <a:ext cx="3657600" cy="1828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1752480"/>
            <a:ext cx="3657600" cy="1828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45:27Z</dcterms:created>
  <dc:creator>Simon Kleinsorge</dc:creator>
  <dc:description/>
  <dc:language>en-US</dc:language>
  <cp:lastModifiedBy>Simon Kleinsorge</cp:lastModifiedBy>
  <dcterms:modified xsi:type="dcterms:W3CDTF">2002-08-07T19:48:42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523769</vt:r8>
  </property>
  <property fmtid="{D5CDD505-2E9C-101B-9397-08002B2CF9AE}" pid="3" name="_AuthorEmail">
    <vt:lpwstr>skleinsorge@new.rr.com</vt:lpwstr>
  </property>
  <property fmtid="{D5CDD505-2E9C-101B-9397-08002B2CF9AE}" pid="4" name="_AuthorEmailDisplayName">
    <vt:lpwstr>Simon Kleinsorge</vt:lpwstr>
  </property>
  <property fmtid="{D5CDD505-2E9C-101B-9397-08002B2CF9AE}" pid="5" name="_EmailSubject">
    <vt:lpwstr>FM-Homepage</vt:lpwstr>
  </property>
</Properties>
</file>